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0B2C-748E-496A-9AED-E84FBA34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908-5911-444A-AE37-04B20198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BA4A-7FB1-47EC-9525-4A7EFFD1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CB0-5448-4291-817A-FD9AFE7E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AD54-B390-4B48-93CC-E156E384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A17A-F1E3-43F9-B0B3-1875D303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E975-8D36-4224-B066-9B5C5437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BA5-7C89-4133-9E2E-C4235D93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318-F3B5-4BE9-8E8A-4FC882A4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62D-734D-4FED-9EAA-72A535E8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D246-021F-4A9D-90EC-10CEB57E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9957-9AD4-40CE-B7B8-C5712C0E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02F5-7379-4A0C-9CD9-B144BCC4E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zpo1.ask.com/r?t=a&amp;d=mys&amp;s=ads&amp;c=p&amp;ti=1&amp;ai=30751&amp;l=dis&amp;o=14541&amp;sv=0a5c4235&amp;ip=43bdd877&amp;u=http%3A%2F%2Fwww.flagsonline.it%2FBandiere%2Fbangrandi%2Frussi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bii.gov/images/uploaded/153507_1153350433598_m_Baltic_sea_pollution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reenpeace.org/raw/image_full/russia/en/photosvideos/photos/air-pollution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static.guim.co.uk/sys-images/Guardian/Pix/pictures/2009/11/6/1257508360876/Russian-power-station-001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www.google.com/imgres?imgurl=http://ci.santa-rosa.ca.us/SiteCollectionImages/PWStorm_waterpollution.jpg&amp;imgrefurl=http://ci.santa-rosa.ca.us/departments/utilities/stormwatercreeks/swpermit&amp;usg=__IJoMYzLDHIljhMWaBGsOgRwU0OU=&amp;h=289&amp;w=269&amp;sz=148&amp;hl=en&amp;start=57&amp;zoom=1&amp;itbs=1&amp;tbnid=JLmkSdUcYMM0LM:&amp;tbnh=115&amp;tbnw=107&amp;prev=/images%3Fq%3DRussian%2Bpollution%26start%3D40%26hl%3Den%26sa%3DN%26gbv%3D2%26ndsp%3D20%26tbs%3Disch:1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russ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ssia’s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Emily Barker and Dejvid Sh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places with severe poll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common oil spills during the communist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don’t clean up the sp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e waste was dumped into the rivers and o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ticides and other heavy metals poisoned soil in a lot of ar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vironmental Issu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are many polluted 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y of the places have acid rain i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uclear power left dangerous by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8580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71800" y="2133720"/>
            <a:ext cx="3124440" cy="262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520" y="2819520"/>
            <a:ext cx="2971800" cy="165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71800" y="387360"/>
            <a:ext cx="3733920" cy="155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9"/>
          <a:stretch/>
        </p:blipFill>
        <p:spPr>
          <a:xfrm>
            <a:off x="533520" y="4876920"/>
            <a:ext cx="449568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10"/>
          <a:stretch/>
        </p:blipFill>
        <p:spPr>
          <a:xfrm>
            <a:off x="5257800" y="5029200"/>
            <a:ext cx="1738440" cy="155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11"/>
          <a:stretch/>
        </p:blipFill>
        <p:spPr>
          <a:xfrm>
            <a:off x="7238880" y="2590920"/>
            <a:ext cx="1752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blems For People and 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ison Drink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y people suffer from lung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ison Soil can make poison plants that animals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03:07Z</dcterms:created>
  <dc:creator>Barker Family</dc:creator>
  <dc:description/>
  <dc:language>en-US</dc:language>
  <cp:lastModifiedBy>Barker Family</cp:lastModifiedBy>
  <dcterms:modified xsi:type="dcterms:W3CDTF">2010-12-14T20:17:25Z</dcterms:modified>
  <cp:revision>5</cp:revision>
  <dc:subject/>
  <dc:title>Russia’s Environment</dc:title>
</cp:coreProperties>
</file>